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A3AC-5FC2-43F3-BBF2-CD3AA496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768D-1525-4665-94D3-478BC3D8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7A9B-C516-4580-B6A8-488D810B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BCB6-EDE6-45FF-AB44-78AE1BEF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75C1-0264-4FE2-B39E-CBCBBEAA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7F25-6232-4EE5-85D8-57EF2C91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FD9F-1D32-49E7-B9D3-859D0AB9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FD74-B25E-4C34-8795-05A259CD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06A3-67E0-4C5E-AA43-52B06BA1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ABAC-4A0D-4174-B2FF-6648A681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D693-DAB6-4A35-92BF-9679B73F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C721-0C85-4646-80FE-25BF751F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1943-C5AD-4DE7-B396-5295F9F54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During the New King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04760" y="3505320"/>
            <a:ext cx="556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Justine Coleman and Dina Ni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tshepsut's Family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Wife_____Thutmose I ____Great Royal W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em Wife ___ Thutmose II (50% royal) ___Hatshepsut(100% roy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tmose III (25% royal) _______ daug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line for Rule During the New Kingd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00 B.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1500 B.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1200 B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1567 B.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C 1085 B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3-1482 Queen Hatshepsut ru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4-1450 Reign of Thutmose III; empire expands into Sy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7:37:08Z</dcterms:created>
  <dc:creator>Default</dc:creator>
  <dc:description/>
  <dc:language>en-US</dc:language>
  <cp:lastModifiedBy>Default</cp:lastModifiedBy>
  <dcterms:modified xsi:type="dcterms:W3CDTF">2009-01-12T18:02:56Z</dcterms:modified>
  <cp:revision>10</cp:revision>
  <dc:subject/>
  <dc:title>Rule During the New Kingdom</dc:title>
</cp:coreProperties>
</file>